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B46A4-391A-4C72-9EA2-94C0980EF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F3E1-7D30-406F-8DC4-7B9A5840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5AE2F-0922-49E8-A979-2FBACD4E8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E7B4C-F0C0-4988-98B0-DB0363E76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E562E-070F-4444-90D3-B0150FAA0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97F18-2F05-495B-9F8F-747CA5E8D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474C8-03DF-4D69-9899-B023E284E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3F782-397C-47A8-B2E2-1E0725C83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BE18B-5D74-4526-AD02-B2C0D6A38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1CDBC-321E-4B41-80C2-3DB82BE69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2AD8A-18C3-4FE6-856E-A8D77446A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3C577-3197-42E4-A601-8828B4C4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D455-EEDF-43F9-93FD-DA891D3F2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4BBAB-353E-43CB-B208-EB79771E9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26E38-6583-4A8F-BD2A-2BC614AF7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3FAD7-5AEE-4F41-902A-9F52B20AC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85267-6A3F-40C8-80CC-4B46E735C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8A265E-66F1-4CD3-ACC4-5E999CEA28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675AB-5EDA-42C9-9ED2-79EE9FE3C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B2650-BC08-441F-91A5-965DC3013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272F8-D156-4482-8A09-197347427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D67DC8-2980-4872-B5D6-84351ADA8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86D7-D3B8-43EA-B1C1-E317610F0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D526F-E684-4306-8D76-581B9D41F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C9FEE-5C61-441F-8018-575DCAFB3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6C61C-7F39-482C-B2B2-C66E97A2C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C99F2-7DEF-4C1E-B9CE-ACC48B833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FC8E3-F296-4E83-B292-FF6B54077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1E7634-8539-4C47-8562-E6EB09DEC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869DFE-AF58-433A-A31D-ABE6A62C83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B2CEC3-0EAB-47EB-A790-5B265D4DA3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F6E06-0242-4862-84EB-FA961EC91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3F052-8F56-4797-9EEE-30F4F52AA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6D7B-9978-40B6-BF0D-2AF05F02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D6C11-9408-49F0-AE53-56CA6F394A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2B0EE-EA59-4B3A-9E11-D8B74D65B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9ADF5-9CAE-4BC9-B2CD-01E0BE261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68375-4538-4049-ACAD-DB92B9FA4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08F51-CFA9-4A25-8B96-3508C8A18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6D098-BCA0-4FBD-B50E-BDB31E128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0D495-6CB1-4CC7-895B-D31332886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25D71F-DDBD-4CE7-996B-3BE51726F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A27C44-B41D-4051-9DA7-BCFCD7283F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788633-F26B-482D-A386-9DBA9FE7D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20216-9346-49D3-918D-AF83544D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483015-B357-4564-A67D-87D928D2F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450D0-14A4-4F3F-BEC5-9B9F56551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F52C3-78B7-4579-99F8-E7217F6DC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7BED1-E92D-4951-B92B-5EBC074A8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5C134-223A-4F8B-B5C3-91A1168932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E5921-8576-480D-AD0C-FAC7BE651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892D9-44C5-45DE-92E8-9E62106CF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682FC-995C-4631-95D9-03E1A4FF3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95F2DC-7F42-4053-AF1B-304F73B01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DE46B0-0019-4B96-9796-6585085CBB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6834-107B-4FD9-BDEC-71E984817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2A6F6F-85D1-4F52-B44B-AE91905E56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16E187-F784-4237-A714-4E8985DD36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D2E8A-4BDF-4E23-B434-D6CD1DA08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06113-F640-409B-8157-3D5DB5622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69306-6480-4A78-B962-6D0A65974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43D79-519B-4B1D-8248-8DB0C3C80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A98EB-535A-4108-9EE3-B0D608FF9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89D8F-0652-4715-A3A2-75BE0F295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31F40-3EFE-46BB-821C-4F32BA8D1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D6AF2-0110-4CAA-864B-545314E55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C1A0D-4384-4F79-8456-9F9A758D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74007-F052-4962-A9FF-F427C85F9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FC78BA-1F61-4068-81F4-93033A1A4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4D71F7-C969-41FF-A422-81066145EF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C258E2-A41C-4905-BFF0-34A5868A34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5BCF6-1869-42CC-BA12-A1EA48A31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04FF7-AF75-4C9B-8F80-E80ED07C6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13816-CC0F-459E-941F-FC9323CCA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A9F166-9521-441B-97F5-6BDA47AA8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819AF-5D42-4382-B11B-6AD66F03B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AC15F-2DAE-477C-A480-3FFEC9F09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626D2-0536-4B1A-B515-19FF4BCFB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3F252-09A2-41BA-903B-C7D4EC310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6B851-D562-4958-8BF6-E5EFBD0F7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EFB38-AF13-457C-AA72-D9C728372A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283644-C129-4C5B-9CD1-D36E6F4B9C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2A684F-BE65-4AA3-AE48-86D59C96D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DE26-195D-436D-8252-493D0AF67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5026-1C17-4DBB-8381-3E938D94BFAD}"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416A-FC80-4739-83A5-6FCB2DF954AF}"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0CE6-25A0-4D10-84F1-3FD2727DF340}"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64AD-A131-42DB-A56C-D8583013495C}"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1DE1-EB01-42C2-8D13-0B3585FC79F8}"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4997-9627-4AE5-9B35-C62AF0041AAE}"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B55B-22AE-4388-ACDC-792D4FB5DF5A}"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teacherwebshelf.com/classroompets/HomeTOC.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lassroompets4u.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teacherwebshelf.com/classroompets/mammals-hamsters.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pter 3</a:t>
            </a:r>
            <a:br>
              <a:rPr sz="4300"/>
            </a:br>
            <a:r>
              <a:rPr b="0" lang="en-US" sz="4300" spc="-1" strike="noStrike">
                <a:solidFill>
                  <a:srgbClr val="572314"/>
                </a:solidFill>
                <a:latin typeface="Gill Sans MT"/>
              </a:rPr>
              <a:t>Activity 2</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Each group now will need computer time to research pets and make a final decision on the best pet. You can take the whole class to the lab, use laptops or tablets, or rotate groups on a classroom center (even one computer will work!). Send students to </a:t>
            </a:r>
            <a:r>
              <a:rPr b="0" lang="en-US" sz="3000" spc="-1" strike="noStrike" u="sng">
                <a:solidFill>
                  <a:srgbClr val="8dc765"/>
                </a:solidFill>
                <a:uFillTx/>
                <a:latin typeface="Gill Sans MT"/>
                <a:hlinkClick r:id="rId1"/>
              </a:rPr>
              <a:t>Classroom Pets and Animals Table of Contents</a:t>
            </a:r>
            <a:r>
              <a:rPr b="0" lang="en-US" sz="3000" spc="-1" strike="noStrike">
                <a:solidFill>
                  <a:srgbClr val="000000"/>
                </a:solidFill>
                <a:latin typeface="Gill Sans MT"/>
              </a:rPr>
              <a:t> and ask each group to spend 15 minutes looking through the entries. The goal is to find the pet they think would fit best with their assigned teacher's classroom.</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Finally, have each group write its recommendation to the assigned teacher. The recommendation -- which can be as simple as a handwritten note -- would list group members' names, identify their choice for a pet for that classroom, and include 2-3 sentences explaining that choice. They also should list 2-3 pets that are not good choices (Explain that these pets also must be listed at the Web site visited, not animals like elephants or unicorns!), and write several sentences explaining why those would not be good choices. Each group then delivers its decision to the teacher, who will return the copy to you for grading.</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Assessment</a:t>
            </a:r>
            <a:br>
              <a:rPr sz="3900"/>
            </a:br>
            <a:endParaRPr b="0" lang="en-US" sz="3900" spc="-1" strike="noStrike">
              <a:solidFill>
                <a:srgbClr val="572314"/>
              </a:solidFill>
              <a:latin typeface="Gill Sans MT"/>
            </a:endParaRPr>
          </a:p>
        </p:txBody>
      </p:sp>
      <p:sp>
        <p:nvSpPr>
          <p:cNvPr id="337" name=""/>
          <p:cNvSpPr txBox="1"/>
          <p:nvPr/>
        </p:nvSpPr>
        <p:spPr>
          <a:xfrm>
            <a:off x="1434960" y="1447560"/>
            <a:ext cx="7499520" cy="5105160"/>
          </a:xfrm>
          <a:prstGeom prst="rect">
            <a:avLst/>
          </a:prstGeom>
          <a:noFill/>
          <a:ln w="0">
            <a:noFill/>
          </a:ln>
        </p:spPr>
        <p:txBody>
          <a:bodyPr anchor="t">
            <a:normAutofit fontScale="97000"/>
          </a:bodyPr>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tudents will be graded on their ability to:</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nage their time and work in a group.</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ssess the pet requirements of a teacher and the teacher's classroom.</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key characteristics of a specific species and use those characteristics to determine the pet that fits best with a teacher's classroom.</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Lesson Plan Source</a:t>
            </a:r>
            <a:endParaRPr b="0" lang="en-US" sz="1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Education World</a:t>
            </a:r>
            <a:endParaRPr b="0" lang="en-US" sz="12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Submitted By</a:t>
            </a:r>
            <a:endParaRPr b="0" lang="en-US" sz="1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orrie Jackson</a:t>
            </a:r>
            <a:endParaRPr b="0" lang="en-US" sz="1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680"/>
            <a:ext cx="749952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1: Rationale for Using Technology</a:t>
            </a:r>
            <a:endParaRPr b="0" lang="en-US" sz="39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	</a:t>
            </a:r>
            <a:r>
              <a:rPr b="0" lang="en-US" sz="2700" spc="-1" strike="noStrike">
                <a:solidFill>
                  <a:srgbClr val="000000"/>
                </a:solidFill>
                <a:latin typeface="Gill Sans MT"/>
              </a:rPr>
              <a:t>1.  The  lesson  topic  or  skill  area  is  one  that  teachers  often  report  difficulties  teaching.  NO</a:t>
            </a:r>
            <a:br>
              <a:rPr sz="2700"/>
            </a:br>
            <a:r>
              <a:rPr b="0" lang="en-US" sz="2700" spc="-1" strike="noStrike">
                <a:solidFill>
                  <a:srgbClr val="000000"/>
                </a:solidFill>
                <a:latin typeface="Gill Sans MT"/>
              </a:rPr>
              <a:t>2.   The  technology-based  lesson  offers  clear  relative  advantage  over  other  ways  of  teaching  the topic or skill.  YES.  The relative advantage is that students will get to practice taking notes on things they read from the internet, citing sources, and they get to learn how to use</a:t>
            </a:r>
            <a:r>
              <a:rPr b="0" lang="en-US" sz="2700" spc="-1" strike="noStrike" u="sng">
                <a:solidFill>
                  <a:srgbClr val="8dc765"/>
                </a:solidFill>
                <a:uFillTx/>
                <a:latin typeface="Gill Sans MT"/>
                <a:hlinkClick r:id="rId1"/>
              </a:rPr>
              <a:t>www.classroompets4u.com</a:t>
            </a:r>
            <a:r>
              <a:rPr b="0" lang="en-US" sz="2700" spc="-1" strike="noStrike">
                <a:solidFill>
                  <a:srgbClr val="000000"/>
                </a:solidFill>
                <a:latin typeface="Gill Sans MT"/>
              </a:rPr>
              <a:t>. </a:t>
            </a:r>
            <a:br>
              <a:rPr sz="2700"/>
            </a:br>
            <a:r>
              <a:rPr b="0" lang="en-US" sz="2700" spc="-1" strike="noStrike">
                <a:solidFill>
                  <a:srgbClr val="000000"/>
                </a:solidFill>
                <a:latin typeface="Gill Sans MT"/>
              </a:rPr>
              <a:t>3.   The  relative  advantage  seems  sufficient  to  justify  the  extra  expense  and  effort  required  to use  the  technology.  YES.</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2: Lesson Objective and Assessments</a:t>
            </a:r>
            <a:endParaRPr b="0" lang="en-US" sz="39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Objectives  are  clear  statements  of  products  and/or  performances  that  students  are  required  to do to  demonstrate  learning.  Y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  Student  objectives  reflect  measures  that  are  usually  required  for  the  topic/area  or  that  makes sense  as  alternatives  to  those  usually  required.  Y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2: Lesson Objective and Assessments</a:t>
            </a:r>
            <a:endParaRPr b="0" lang="en-US" sz="39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  An  assessment  plan  and  instruments  are  given;  assessment  instruments  are  well  designed.  N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7.   There  is  a  clear  match  between  student  objectives  and  assessments. Y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3: Technology Integrated Strategies</a:t>
            </a:r>
            <a:endParaRPr b="0" lang="en-US" sz="39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8.  </a:t>
            </a:r>
            <a:r>
              <a:rPr b="0" lang="en-US" sz="3200" spc="-1" strike="noStrike">
                <a:solidFill>
                  <a:srgbClr val="000000"/>
                </a:solidFill>
                <a:latin typeface="Gill Sans MT"/>
              </a:rPr>
              <a:t> An individual approach or a grouping  strategy for using the technology  resources is specified and described. </a:t>
            </a:r>
            <a:r>
              <a:rPr b="0" lang="en-CA" sz="3200" spc="-1" strike="noStrike">
                <a:solidFill>
                  <a:srgbClr val="000000"/>
                </a:solidFill>
                <a:latin typeface="Gill Sans MT"/>
              </a:rPr>
              <a:t>NO</a:t>
            </a:r>
            <a:endParaRPr b="0" lang="en-US" sz="32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9.  </a:t>
            </a:r>
            <a:r>
              <a:rPr b="0" lang="en-US" sz="3200" spc="-1" strike="noStrike">
                <a:solidFill>
                  <a:srgbClr val="000000"/>
                </a:solidFill>
                <a:latin typeface="Gill Sans MT"/>
              </a:rPr>
              <a:t> The technology-based activities are  essential to helping students accomplish the lesson objectives. </a:t>
            </a:r>
            <a:r>
              <a:rPr b="0" lang="en-CA" sz="3200" spc="-1" strike="noStrike">
                <a:solidFill>
                  <a:srgbClr val="000000"/>
                </a:solidFill>
                <a:latin typeface="Gill Sans MT"/>
              </a:rPr>
              <a:t>YES</a:t>
            </a:r>
            <a:endParaRPr b="0" lang="en-US" sz="32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0.  </a:t>
            </a:r>
            <a:r>
              <a:rPr b="0" lang="en-US" sz="3200" spc="-1" strike="noStrike">
                <a:solidFill>
                  <a:srgbClr val="000000"/>
                </a:solidFill>
                <a:latin typeface="Gill Sans MT"/>
              </a:rPr>
              <a:t> The lesson describes how teachers should  prepare students to use technology  resources before their work  is graded.  </a:t>
            </a:r>
            <a:r>
              <a:rPr b="0" lang="en-CA" sz="3200" spc="-1" strike="noStrike">
                <a:solidFill>
                  <a:srgbClr val="000000"/>
                </a:solidFill>
                <a:latin typeface="Gill Sans MT"/>
              </a:rPr>
              <a:t>YES</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3: Technology Integrated Strategies</a:t>
            </a:r>
            <a:endParaRPr b="0" lang="en-US" sz="39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1. </a:t>
            </a:r>
            <a:r>
              <a:rPr b="0" lang="en-US" sz="3200" spc="-1" strike="noStrike">
                <a:solidFill>
                  <a:srgbClr val="000000"/>
                </a:solidFill>
                <a:latin typeface="Gill Sans MT"/>
              </a:rPr>
              <a:t> The lesson timeframe seems logical  to  accomplish all the specified  activities. </a:t>
            </a:r>
            <a:r>
              <a:rPr b="0" lang="en-CA" sz="3200" spc="-1" strike="noStrike">
                <a:solidFill>
                  <a:srgbClr val="000000"/>
                </a:solidFill>
                <a:latin typeface="Gill Sans MT"/>
              </a:rPr>
              <a:t> UNCLEAR</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2.  </a:t>
            </a:r>
            <a:r>
              <a:rPr b="0" lang="en-US" sz="3200" spc="-1" strike="noStrike">
                <a:solidFill>
                  <a:srgbClr val="000000"/>
                </a:solidFill>
                <a:latin typeface="Gill Sans MT"/>
              </a:rPr>
              <a:t> Strategies are described for making  sure all students (e.g.,  disabled,  females,  minorities) are included in learning  activities.  </a:t>
            </a:r>
            <a:r>
              <a:rPr b="0" lang="en-CA" sz="3200" spc="-1" strike="noStrike">
                <a:solidFill>
                  <a:srgbClr val="000000"/>
                </a:solidFill>
                <a:latin typeface="Gill Sans MT"/>
              </a:rPr>
              <a:t>N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Phase 4: Preparation Logistics</a:t>
            </a:r>
            <a:endParaRPr b="0" lang="en-US" sz="39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   The  lesson  makes  it  clear  how  to  protect  students'  privacy  and  safety  while  using technologies . NO</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7.   Teachers  are  likely  to  have  skills  required  to  implement  the  lesson.  Y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8.   The  lesson  describes  a  backup  plan  if  technology  resources  are  not  available  as  planned.  NO</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Phase 4: Preparation Logistics</a:t>
            </a:r>
            <a:endParaRPr b="0" lang="en-US" sz="39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3.   Required  numbers  and  types  of  equipment  and  software/media  copies  are  described.  Y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4.   The lesson makes it clear how long  teachers and students will need access to  technology resources. Y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5.   Technology  resources  required  to  do  the  lesson  are  commonly  available  and  not  expensive.  YES</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572314"/>
                </a:solidFill>
                <a:uFillTx/>
                <a:latin typeface="Gill Sans MT"/>
              </a:rPr>
              <a:t>Helping Students Choose a Class Pet (Science)</a:t>
            </a:r>
            <a:endParaRPr b="0" lang="en-US" sz="3900" spc="-1" strike="noStrike">
              <a:solidFill>
                <a:srgbClr val="572314"/>
              </a:solidFill>
              <a:latin typeface="Gill Sans MT"/>
            </a:endParaRPr>
          </a:p>
        </p:txBody>
      </p:sp>
      <p:sp>
        <p:nvSpPr>
          <p:cNvPr id="321" name=""/>
          <p:cNvSpPr txBox="1"/>
          <p:nvPr/>
        </p:nvSpPr>
        <p:spPr>
          <a:xfrm>
            <a:off x="1434600" y="1447560"/>
            <a:ext cx="14059080" cy="8739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2" name="Picture 2" descr="C:\Users\davidl.cogswell\AppData\Local\Microsoft\Windows\Temporary Internet Files\Content.IE5\218ZFAVW\MC900383412[1].wmf"/>
          <p:cNvPicPr/>
          <p:nvPr/>
        </p:nvPicPr>
        <p:blipFill>
          <a:blip r:embed="rId1"/>
          <a:stretch/>
        </p:blipFill>
        <p:spPr>
          <a:xfrm>
            <a:off x="1447920" y="1600200"/>
            <a:ext cx="6248160" cy="502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5: Evaluation and Revision</a:t>
            </a:r>
            <a:endParaRPr b="0" lang="en-US" sz="39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9. </a:t>
            </a:r>
            <a:r>
              <a:rPr b="0" lang="en-US" sz="3200" spc="-1" strike="noStrike">
                <a:solidFill>
                  <a:srgbClr val="000000"/>
                </a:solidFill>
                <a:latin typeface="Gill Sans MT"/>
              </a:rPr>
              <a:t> There  is  evidence  that  the  lesson  has  been  field-tested  and  revised  based  on  field  test results. </a:t>
            </a:r>
            <a:r>
              <a:rPr b="0" lang="en-CA" sz="3200" spc="-1" strike="noStrike">
                <a:solidFill>
                  <a:srgbClr val="000000"/>
                </a:solidFill>
                <a:latin typeface="Gill Sans MT"/>
              </a:rPr>
              <a:t> N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20.  </a:t>
            </a:r>
            <a:r>
              <a:rPr b="0" lang="en-US" sz="3200" spc="-1" strike="noStrike">
                <a:solidFill>
                  <a:srgbClr val="000000"/>
                </a:solidFill>
                <a:latin typeface="Gill Sans MT"/>
              </a:rPr>
              <a:t> There  is  evidence  that  the  lesson  has  been  used  successfully  in  a  classroom.  </a:t>
            </a:r>
            <a:r>
              <a:rPr b="0" lang="en-CA" sz="3200" spc="-1" strike="noStrike">
                <a:solidFill>
                  <a:srgbClr val="000000"/>
                </a:solidFill>
                <a:latin typeface="Gill Sans MT"/>
              </a:rPr>
              <a:t>N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2:</a:t>
            </a:r>
            <a:r>
              <a:rPr b="0" lang="en-US" sz="3200" spc="-1" strike="noStrike">
                <a:solidFill>
                  <a:srgbClr val="000000"/>
                </a:solidFill>
                <a:latin typeface="Gill Sans MT"/>
              </a:rPr>
              <a:t> Improvements and clarifications to objectives and/or assessments: This lesson mentions assessment and what the students are being assessed on but it would be more useful for the students to have a rubric so they know how their mark is being broken down and the steps they need to take to be successful.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3</a:t>
            </a:r>
            <a:r>
              <a:rPr b="0" lang="en-US" sz="3200" spc="-1" strike="noStrike">
                <a:solidFill>
                  <a:srgbClr val="000000"/>
                </a:solidFill>
                <a:latin typeface="Gill Sans MT"/>
              </a:rPr>
              <a:t>: Improvements and clarifications to pedagogy and/or technology uses: This lesson is based on group work but should tell teachers how to make it into an individual assignment also.  A working timeframe needs to be  included.  This lesson also needs to include strategies and modifications so that all students can complete the assignment successfull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4:</a:t>
            </a:r>
            <a:r>
              <a:rPr b="0" lang="en-US" sz="3200" spc="-1" strike="noStrike">
                <a:solidFill>
                  <a:srgbClr val="000000"/>
                </a:solidFill>
                <a:latin typeface="Gill Sans MT"/>
              </a:rPr>
              <a:t> Improvements and clarifications to classroom preparation: This lesson needs to discuss what safety precautions to take to make sure students understand safety when using the internet.  There also needs to be a backup plan included incase technology is not accessibl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5:</a:t>
            </a:r>
            <a:r>
              <a:rPr b="0" lang="en-US" sz="3200" spc="-1" strike="noStrike">
                <a:solidFill>
                  <a:srgbClr val="000000"/>
                </a:solidFill>
                <a:latin typeface="Gill Sans MT"/>
              </a:rPr>
              <a:t> Improvements and clarifications to field testing methods and/or reports:  This lesson plan has no evidence whatsoever that it has been field tested, revised, or successful in any way.  It should contain notes on what did or did not work, and ways to make the lesson more successful.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pter 3</a:t>
            </a:r>
            <a:br>
              <a:rPr sz="4300"/>
            </a:br>
            <a:r>
              <a:rPr b="0" lang="en-US" sz="4300" spc="-1" strike="noStrike">
                <a:solidFill>
                  <a:srgbClr val="572314"/>
                </a:solidFill>
                <a:latin typeface="Gill Sans MT"/>
              </a:rPr>
              <a:t>Activity 3</a:t>
            </a:r>
            <a:endParaRPr b="0" lang="en-US" sz="4300" spc="-1" strike="noStrike">
              <a:solidFill>
                <a:srgbClr val="572314"/>
              </a:solidFill>
              <a:latin typeface="Gill Sans MT"/>
            </a:endParaRPr>
          </a:p>
        </p:txBody>
      </p:sp>
      <p:sp>
        <p:nvSpPr>
          <p:cNvPr id="363"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900" spc="-1" strike="noStrike">
                <a:solidFill>
                  <a:srgbClr val="572314"/>
                </a:solidFill>
                <a:latin typeface="Gill Sans MT"/>
              </a:rPr>
              <a:t>Technology Integration Lesson Planning:</a:t>
            </a:r>
            <a:endParaRPr b="0" lang="en-US" sz="39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The lesson is centered around the technology.</a:t>
            </a:r>
            <a:endParaRPr b="0" lang="en-US" sz="32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The teacher has experience with geocaching and there will be a representative from the school district to teach the students about the GPS devices.  The teacher does not, however, teach physical education regularly but has invited the regular physical education teacher along for support.</a:t>
            </a:r>
            <a:endParaRPr b="0" lang="en-US" sz="32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572314"/>
                </a:solidFill>
                <a:latin typeface="Gill Sans MT"/>
              </a:rPr>
              <a:t>During this activity students learn how to mark waypoints and determine their latitude and longitude. The students also learn how to use the GO TO command to find a waypoint and receive a treasure as a reward.</a:t>
            </a:r>
            <a:endParaRPr b="0" lang="en-US" sz="2400" spc="-1" strike="noStrike">
              <a:solidFill>
                <a:srgbClr val="572314"/>
              </a:solidFill>
              <a:latin typeface="Gill Sans MT"/>
            </a:endParaRPr>
          </a:p>
        </p:txBody>
      </p:sp>
      <p:sp>
        <p:nvSpPr>
          <p:cNvPr id="367" name=""/>
          <p:cNvSpPr txBox="1"/>
          <p:nvPr/>
        </p:nvSpPr>
        <p:spPr>
          <a:xfrm>
            <a:off x="457200" y="2057040"/>
            <a:ext cx="8229600" cy="441972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ill Sans MT"/>
              </a:rPr>
              <a:t>Assessment will involve anecdotal notes, teacher will collect and assess the worksheets</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ill Sans MT"/>
              </a:rPr>
              <a:t>Teacher will ensure that all equipment is in good working condition.  The weather also plays a part in the use of the devices.  If it is cloudy then the waypoints may be off a little.</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ill Sans MT"/>
              </a:rPr>
              <a:t>Teacher has an appointment with the district GPS representative a few days before the scheduled outing with the class.  This will give the teacher an idea of the size and shape of the area.  The GPS representative will also give a refresher course using the GPS devices and clarify any questions the teacher has.</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	</a:t>
            </a:r>
            <a:r>
              <a:rPr b="0" lang="en-CA" sz="3200" spc="-1" strike="noStrike">
                <a:solidFill>
                  <a:srgbClr val="000000"/>
                </a:solidFill>
                <a:latin typeface="Gill Sans MT"/>
              </a:rPr>
              <a:t>It would be a good idea to discuss the activity with the class.  Talk about what went well and what did not run as smoothly as desired.  Teacher will have a session with other supervisors and get a feel of how the lesson went.  Also, teacher will meet with the GPS representative and give him a chance to provide feedback.</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	</a:t>
            </a:r>
            <a:r>
              <a:rPr b="0" lang="en-CA" sz="3200" spc="-1" strike="noStrike">
                <a:solidFill>
                  <a:srgbClr val="000000"/>
                </a:solidFill>
                <a:latin typeface="Gill Sans MT"/>
              </a:rPr>
              <a:t>This lesson is a good introductory level for geocaching beginner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Grad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3-5</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Brief Description</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tudents analyze several classrooms at their school, interview teachers, research pets, and make informed recommendations about which pet is right for each classroom.</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Objectives</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tudents will:</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dentify teachers' pet requirement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search online a variety of classroom pet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pply what they learned to choose the best pet for a specific classroom.</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e their time wisely and work cooperatively with others.</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Keyword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ts, higher order thinking, web research</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Materials Needed</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 and paper</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ternet access on one or more student computer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jector or TV monitor on teacher computer (optional)</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Lesson Plan</a:t>
            </a:r>
            <a:br>
              <a:rPr sz="3900"/>
            </a:br>
            <a:endParaRPr b="0" lang="en-US" sz="39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is lesson requires students to analyze several classrooms at their school, interview teachers, research pets, and make informed recommendations on which pet is right for each classroom. Instead of traditional animal reports ("This is what a hamster eats."), students synthesize and apply information to determine the best pet for a particular classroom.</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Prior to the lesson, students should have some practice taking notes about what they read on the Web. They should be familiar with summarizing information and citing sources. You also should ask 5-7 additional teachers to help you with this project by allowing a small group of students into their classrooms for a look-around and being available for a five question survey.</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1434960" y="533160"/>
            <a:ext cx="7499520" cy="60195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Begin a classroom discussion by asking students who have pets to raise their hands. Then ask students who do not have pets for some of the reasons why they don't. (Be careful not to push anyone to disclose anything if they don't want to.) List those answers on the chalkboard. Reasons might include, "We're not home to let a dog out throughout the day" or "My dad is allergic" or "Mom's afraid we won't give a pet as much attention as it would need."</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Share with students that those are some of the concerns that might prevent someone from owning a pet, or limit the type of pet they own. Ask them to imagine that they own their own business called ClassroomPets4You. This business helps teachers find the kind of pets best suited for different classrooms, or discover that they are better off without pet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Next, go to </a:t>
            </a:r>
            <a:r>
              <a:rPr b="0" lang="en-US" sz="2500" spc="-1" strike="noStrike" u="sng">
                <a:solidFill>
                  <a:srgbClr val="8dc765"/>
                </a:solidFill>
                <a:uFillTx/>
                <a:latin typeface="Gill Sans MT"/>
                <a:hlinkClick r:id="rId1"/>
              </a:rPr>
              <a:t>Teachers Web Shelf's Hamster entry</a:t>
            </a:r>
            <a:r>
              <a:rPr b="0" lang="en-US" sz="2500" spc="-1" strike="noStrike">
                <a:solidFill>
                  <a:srgbClr val="000000"/>
                </a:solidFill>
                <a:latin typeface="Gill Sans MT"/>
              </a:rPr>
              <a:t> and read the information aloud. Using your mouse, highlight important facts about the hamster that might affect a teacher's decision to keep it in her or his classroom. Discuss those facts with the class. If you don't have a projector or TV monitor, print the hamster section and copy it for students to read along with you. That will help students visualize what kinds of facts they'll need to watch for in reading about pets. For example, hamsters, unlike fish, need fresh water and food daily, and can escape easily. Explain that a teacher who keeps a hamster will need to decide who feeds the hamster during holidays and how to keep the hamster from escaping.</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56840"/>
            <a:ext cx="7499520" cy="579132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fter reading about hamsters, ask students to share the top five things they would ask a teacher who was interested in keeping a classroom pet. Questions might include, "Do you or any of your students have allergies?" "Do you want a pet that can be picked up and petted?" "What will happen to your pet during the summer?" "Where in your classroom would you keep a pet?" Ask student to write down the top five questions. (Help them decide which five are best.)</a:t>
            </a:r>
            <a:endParaRPr b="0" lang="en-US" sz="27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sk students what they will look at in the classroom they visit. Is there a place for the pet that looks sunny? Too near the heater/air conditioner? Would the cage be too close to students' desks? Write down three things they should look for in the classroom.</a:t>
            </a:r>
            <a:endParaRPr b="0" lang="en-US" sz="27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rrange students into 5-7 small groups of three to four students each, assign each group a classroom, and ask each group to appoint one student as note taker. Explain to students that they will visit the assigned classroom and speak to the teacher; then they will research pets on the Internet and decide which pet might be the best choice for that classroom. Each group then will return to your classroom and discuss what they saw, making some guesses as to what might be a good pet for that teacher to have. ("With Mrs. Johnson's fur allergy, I was thinking about a turtle, lizard, or fish. What do you think?")</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2:14:13Z</dcterms:created>
  <dc:creator>ladmin</dc:creator>
  <dc:description/>
  <dc:language>en-US</dc:language>
  <cp:lastModifiedBy>Province of NS</cp:lastModifiedBy>
  <dcterms:modified xsi:type="dcterms:W3CDTF">2012-07-05T16:40:31Z</dcterms:modified>
  <cp:revision>2</cp:revision>
  <dc:subject/>
  <dc:title>Chapter 3 Activity 2</dc:title>
</cp:coreProperties>
</file>